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1FBC-6AE2-4333-99F1-64C93ABB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makura peninsula is south of present day Tok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157-491B-4828-9ABF-906AF6F0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C61-A216-400B-953A-43338EBC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C24-D681-48E5-93DD-E6D33CD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860-50D3-42ED-BC06-E8CC289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0AD9-72FA-4BB8-AB6A-39A7DF8A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5DD7-6C7E-4BD9-8533-6716D964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6A35-AA78-4753-AB9F-2CF2455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9145-5411-491A-82F8-25E061F6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6529-090B-4243-AE7C-8C156018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4A18-757D-42C2-8919-425E0A1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C5A-9B0C-4E43-8DAB-7E928AD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00C-66AB-4825-9980-4CC74396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EA97-0AC6-485B-9939-A6515DC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3C35-FEA6-4E8B-8350-16A3716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27F5-4674-43B1-90B6-55DB2A0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B82B-DB8B-437B-9D20-DE91D0E1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DB50-3567-478C-B27A-9AA3C4B4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28D-A976-4034-9693-E4E12E9C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8F40-BA78-4C8A-8C30-85C1FA93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927E-0B4E-44BD-853C-7D7927F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E1B-F6D2-4471-857D-CFC47F7D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943-CA78-4244-B650-09AF973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D86-5E61-4123-94FF-A3E58BF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6FA-DE7A-4DDF-9C16-EAABDC3E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6FF-C91C-4D53-9E0B-A4A77B874C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68B-F940-41DC-9026-30F91646EF8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cc0000"/>
                </a:solidFill>
                <a:latin typeface="Times New Roman"/>
              </a:rPr>
              <a:t>Chapter 11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051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The Eastern Asian Rimland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Early Japan, Korea, and Vietn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124080" cy="2104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otoku Taishi (562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2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y, dominant figure in Yamato reg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nt missions to Chang’an (Tang) to learn political institutions to strengthen central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aishi Re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eates 17 Article Constitution (pg 294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reme ruler and a merit system for selecting and ranking public official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mited the power of hereditary no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hanced the prestige and authority of the Yamato ru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ika – the great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eation of the Grand Council of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binet of 8 minist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pan divided into administrative distri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ral villages run by ch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seer of the household 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ing of the sowing of crops and cult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e and mulberry tr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on of off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sition of taxes and forced labou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Tax System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tax and law system creates centralized tax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and is now owned by th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axes now paid directly to the sta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tion of Buddhism into the count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ra (710-784) and Heian (794-1185) Period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se periods = a time of decentral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 avoid taxes land was given up to high ranking aristocrats who were exempt from paying tax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sult – centralized government loses influence and strategic marriages bind strong factions toge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ral Clans continued to become more powerful especially with the introduction of the samurai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ans become milita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amur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ved life of simplicity and self-sacrifi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llowed Bushido or warrior co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rict loyalty bonded samurai cla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ecome a major political and military force in the country side.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3810240" cy="454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809880" y="6400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bookmarked si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Kamakura Shogun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ivil war ensues as decentralization occu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e-Centralization occurs under the leadership from a warrior clan: Minamoto Yoritomo (1142-1199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ts up power base at Kamakura peninsul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gunate System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entralized government Bakuf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werful Military under leadership of the Shog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peror exist but is a figure had to the Shog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will continue into the second half of the 19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023840" cy="1295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43800" y="3886200"/>
            <a:ext cx="12668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e of Unr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gol Invasion Late 13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asion tried tw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invasion conquered by Kamikaze “divine wind) Typho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hikaga Period 1333 – 16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entralization ramp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myo (great names) are ruling creating a loose coalition of families ruling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in War 1462-147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on of Capital City of Kyo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integration of the Shogu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ful Aristocrats seize large territories and rule independent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ring common until 16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when centralization retur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c and Social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gricultural society based on “wet ric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360072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c Co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erce slow to develop in Jap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ji – made up of weavers, carpenters and ironworkers trade though is regulated and limited to clan lead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amato state money economy gradually develops although barter is comm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amakura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de and manufacturing devel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ppearance of Tri-monthly market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mergence of industry: paper, iron casting, and porcela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reign trade with Korea and Chin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apanese Exports: raw materials, paintings, sword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apanese Imports: silk, porcelain, books, copper ca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pan Land of the Rising Su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apan is an Island count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 main island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kkaido (nort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shu (cent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yushu and Shikoku (sout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mperate Climate especially in the Ea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 major c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kyo, Osaka, and Kyo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shikaga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pid growth of wealth and authority of daimyo families create market tow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ll money econom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cal manufacturers form gilds – Zaivats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opolies on product industry – apprentice, journeyman, mas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rice, samurai sword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e f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1718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Lif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on Peop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 officials – well to do peasants – responsible for organizing collective labour services and collecting tax grain and so are exempt from tax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as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enin – Landless labo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ta – Hereditary sla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1320" y="4114800"/>
            <a:ext cx="22860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der R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men and men share importance early on as both are needed to perform tasks to surv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lygamy comm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 law code guaranteed inheritance rights of women, and wives abandoned by husbands were permitted to divorce and remar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usbands could divorce if a male child wasn’t produced, committed adultery, disobeyed parents in law, talked too much, engaged in theft was jealous or had a serious illness!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th the introduction of Buddhism women were subordinate in pos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22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arly belief – worship of nature spirits: Kami  and ancestor spiri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olve into Shinto the state reli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tualistic acts at a shr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of purif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ss on the importance and beauty of n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comes a state doctrine linked the divinity of the emperor and Japanese n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16765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ddhism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roduced in 6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 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eate a Shinto/Buddhism combination in a symbiotic relationshi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wo sect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Pure Land sect – common peo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ion alone could lead to enlightenment and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Zen Buddhism – compliment traditional belief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erity self-discipline and communion of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ore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jor influences from Chin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orea is divided into the Three Kingdo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to 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ings bitter rivalry for influence and territory on the peninsul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 absorb political and cultural influence from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oguryo influenced by Buddhism in the late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ingdoms share a tributary relationship with Ch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lla has strong internal cohesion due to location from China will become dominant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548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lla Kingdom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ce Chinese from all of Korea except Yalu Riv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epts tributary status under the T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mpted to use Chinese political model for  centraliz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ddhism rising in popula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inese architecture, art, and written language become pop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civil service examination system or distribution manorial lands to the po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lla king assassinated in 780 country sinks into civil war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9920" y="380880"/>
            <a:ext cx="16002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oryo Dynas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rose in the Nor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dopted Chinese political mod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ivil Service exam system introduced in 958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dustry and commerce slowed devel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griculture premier source of weal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ing and noble families hold 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se people composed of slaves, artisans, and specialized worke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gol R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oryo unable to overcome the power of the nobility and the absence of a reliable tax ba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oryo becomes a tributary to Kh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found suffering to the Korean people for peasants and artis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roduction of new ideas and technolog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h the rise of the Ming in China Koryo collapses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wer now in the hands of Military commander Yi Song-gye Yi dynasty in 139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untainous – volcanic – creates fertile so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0% total land is suitable for cultivation = 2 crops/y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cated on Asian and Pacific tectonic plates – prone to earthquak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m Clip: Days that Shook the World: Japan 192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etnam – The Smaller Drag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 200 BCE – a young state began to for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mediately felt pressure by the Qin Dynasty in Chin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etnamese gain independence after the Qin collap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Century later absorbed into the Han Empi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rted autonomous region under the administration of the local landed aristoc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inese taxes are oppressive and in 39 CE revolt led by Trung Sisters bring an end to Han ru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0" y="5643720"/>
            <a:ext cx="18288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nese suppress the rebellion and begin to rule directl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marriages between the Sino-Vietnamese elite identirfy with Vietnamese autonom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t, architecture, literature, philosophy and written language of the Chinese adop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en as part of Chi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ise of the Great Vi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the 10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C – Vietnamese strengthened by a sense of ethnic and cultural identity overthrow Chinese rule with the collapse of the Tang Dynas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i Viet becomes a new force on the South-east Asian mainla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ai Viet – take on Champa and the Gulf of Siam and Mongols – being successful!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of guerrilla warf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inese Legac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fucian model follow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uler styled like Chinese Emper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opted Chinese court rituals, claimed Mandate of Heave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nese political model adopted including civil service exa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read of Buddhism, Daoism and Confucianism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ig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zanagi and Izanami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– god and goddess their union creates Jap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 birth to Amaterasu which then becomes the founder of socie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gives credence to the Emperors to c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352680" y="4952880"/>
            <a:ext cx="77652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19920" y="304920"/>
            <a:ext cx="28573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igins Co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vidence of humans at least 100,000 yea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omon 10,000 years ago pottery evide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00 BCE – Korean immigrants Yayoi culture come to Japan along with rice crops will spread to northern islan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9051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052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ayoi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ttle predominately in Yamato Plain (near the modern cities of Osaka and Kyoto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ibal Society called U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led by hereditary chieftai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ction for portion of harv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pulation divided in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ristocratic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jority of Pop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e far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hold serv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971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ayoi Con’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ghly decentralized socie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though, dominant clan in the Yamato region claimed to be descendent of Amaterasu and did contain some measure of pow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Rise of the Japanese St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 to the potential threat of China, Japan reorganized itself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Created alliances with remaining Korean St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Centralized authority to reset a Chinese inva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96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2:26:18Z</dcterms:created>
  <dc:creator>ripkensa</dc:creator>
  <dc:description/>
  <dc:language>en-US</dc:language>
  <cp:lastModifiedBy>ripkensa</cp:lastModifiedBy>
  <dcterms:modified xsi:type="dcterms:W3CDTF">2009-11-30T16:08:21Z</dcterms:modified>
  <cp:revision>8</cp:revision>
  <dc:subject/>
  <dc:title>Chapter 11</dc:title>
</cp:coreProperties>
</file>